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D6FC4-34B9-48F5-A7F8-F203BC5BB0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D3946-9918-458D-9B43-699794A51E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9A5D4-DB22-4B2B-8399-D0BC15855E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1440" cy="132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BFF79-E005-4DD8-A6F2-8F028333E2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228F-ECA7-4B1D-A924-71653ACB05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3E86-7EF5-49EE-81DD-641185542D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1440" cy="132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2D32A-808E-4B54-BBEE-6C4B57E399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4E0E-C61E-4154-AAA4-65AE98727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E56F-2D46-4B88-9C03-711CDCCF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B54F-47D7-4287-8FBC-87E14C6A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2ED3-1230-4804-8F5B-68C9FE80D0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32F3-2AE4-4FB1-95F7-5EE4221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526E-C29B-4900-8032-F9647B0B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8425-B233-473F-ADEB-F2DF0777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5F40-D985-4508-A94E-A11FBD08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20320"/>
            <a:ext cx="82263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185F-B531-47F1-A32C-2E2ED89C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4B9B-3DD6-489C-9D6B-2A0A860D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DC52-0019-4FBE-8711-C4430153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06E9-3119-485F-819E-62BCDB50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-04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8002D-C74F-49F8-984B-14511A181F6F}" type="slidenum">
              <a:rPr b="0" lang="nl-N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179280" y="1844640"/>
            <a:ext cx="1704960" cy="2592360"/>
          </a:xfrm>
          <a:custGeom>
            <a:avLst/>
            <a:gdLst>
              <a:gd name="textAreaLeft" fmla="*/ 83160 w 1704960"/>
              <a:gd name="textAreaRight" fmla="*/ 1621800 w 1704960"/>
              <a:gd name="textAreaTop" fmla="*/ 83160 h 2592360"/>
              <a:gd name="textAreaBottom" fmla="*/ 2509200 h 2592360"/>
            </a:gdLst>
            <a:ahLst/>
            <a:rect l="textAreaLeft" t="textAreaTop" r="textAreaRight" b="textAreaBottom"/>
            <a:pathLst>
              <a:path w="21600" h="32840">
                <a:moveTo>
                  <a:pt x="3600" y="0"/>
                </a:moveTo>
                <a:arcTo wR="3600" hR="3600" stAng="16200000" swAng="-5400000"/>
                <a:lnTo>
                  <a:pt x="0" y="29240"/>
                </a:lnTo>
                <a:arcTo wR="3600" hR="3600" stAng="10800000" swAng="-5400000"/>
                <a:lnTo>
                  <a:pt x="18000" y="328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ffffff"/>
                </a:solidFill>
                <a:latin typeface="Calibri"/>
              </a:rPr>
              <a:t>ONDERZOE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79280" y="5300640"/>
            <a:ext cx="8736120" cy="12240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BEDRIJFSONDERSTEUN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1979640" y="1844640"/>
            <a:ext cx="5184720" cy="25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ffffff"/>
                </a:solidFill>
                <a:latin typeface="Calibri"/>
              </a:rPr>
              <a:t>Z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79280" y="404640"/>
            <a:ext cx="8713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f7ff"/>
              </a:gs>
              <a:gs pos="100000">
                <a:srgbClr val="a6e6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STURING en VERANTWOORD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79280" y="4508640"/>
            <a:ext cx="8713800" cy="7221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ZORGPROCES ONDERSTEUN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236000" y="1844640"/>
            <a:ext cx="1679400" cy="2592360"/>
          </a:xfrm>
          <a:custGeom>
            <a:avLst/>
            <a:gdLst>
              <a:gd name="textAreaLeft" fmla="*/ 81720 w 1679400"/>
              <a:gd name="textAreaRight" fmla="*/ 1597680 w 1679400"/>
              <a:gd name="textAreaTop" fmla="*/ 81720 h 2592360"/>
              <a:gd name="textAreaBottom" fmla="*/ 2510640 h 2592360"/>
            </a:gdLst>
            <a:ahLst/>
            <a:rect l="textAreaLeft" t="textAreaTop" r="textAreaRight" b="textAreaBottom"/>
            <a:pathLst>
              <a:path w="21600" h="33340">
                <a:moveTo>
                  <a:pt x="3600" y="0"/>
                </a:moveTo>
                <a:arcTo wR="3600" hR="3600" stAng="16200000" swAng="-5400000"/>
                <a:lnTo>
                  <a:pt x="0" y="29740"/>
                </a:lnTo>
                <a:arcTo wR="3600" hR="3600" stAng="10800000" swAng="-5400000"/>
                <a:lnTo>
                  <a:pt x="18000" y="33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ffffff"/>
                </a:solidFill>
                <a:latin typeface="Calibri"/>
              </a:rPr>
              <a:t>ONDERWIJ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24000" y="0"/>
            <a:ext cx="7993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Berlin Sans FB Demi"/>
              </a:rPr>
              <a:t>Referentiedomeinenmodel Ziekenhuizen  versie 2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79280" y="1052640"/>
            <a:ext cx="87138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f7ff"/>
              </a:gs>
              <a:gs pos="100000">
                <a:srgbClr val="a6e6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SAMENWERK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0" y="6669000"/>
            <a:ext cx="8964720" cy="25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nl-NL" sz="900" spc="-1" strike="noStrike">
                <a:solidFill>
                  <a:srgbClr val="ffffff"/>
                </a:solidFill>
                <a:latin typeface="Calibri"/>
              </a:rPr>
              <a:t>RDZ </a:t>
            </a:r>
            <a:r>
              <a:rPr b="1" i="1" lang="nl-NL" sz="900" spc="-1" strike="noStrike">
                <a:solidFill>
                  <a:srgbClr val="ffffff"/>
                </a:solidFill>
                <a:latin typeface="Calibri"/>
              </a:rPr>
              <a:t>versie2.2</a:t>
            </a:r>
            <a:r>
              <a:rPr b="0" i="1" lang="nl-NL" sz="900" spc="-1" strike="noStrike">
                <a:solidFill>
                  <a:srgbClr val="ffffff"/>
                </a:solidFill>
                <a:latin typeface="Calibri"/>
              </a:rPr>
              <a:t> Referentiedomeinenmodel Ziekenhuizen  van i-ziekenhuis             i-ziekenhuis is een samenwerkingprogramma van de NL ziekenhuizen en UMC’s op initiatief van NVZ en NICTIZ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Rechthoek 11" descr=""/>
          <p:cNvPicPr/>
          <p:nvPr/>
        </p:nvPicPr>
        <p:blipFill>
          <a:blip r:embed="rId1"/>
          <a:stretch/>
        </p:blipFill>
        <p:spPr>
          <a:xfrm>
            <a:off x="8858160" y="-128520"/>
            <a:ext cx="30492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5"/>
          <p:cNvSpPr/>
          <p:nvPr/>
        </p:nvSpPr>
        <p:spPr>
          <a:xfrm>
            <a:off x="179280" y="44280"/>
            <a:ext cx="8713800" cy="7923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STURING en VERANTWOORD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"/>
          <p:cNvSpPr/>
          <p:nvPr/>
        </p:nvSpPr>
        <p:spPr>
          <a:xfrm>
            <a:off x="179280" y="1773360"/>
            <a:ext cx="1704960" cy="2663640"/>
          </a:xfrm>
          <a:custGeom>
            <a:avLst/>
            <a:gdLst>
              <a:gd name="textAreaLeft" fmla="*/ 83160 w 1704960"/>
              <a:gd name="textAreaRight" fmla="*/ 1621800 w 1704960"/>
              <a:gd name="textAreaTop" fmla="*/ 83160 h 2663640"/>
              <a:gd name="textAreaBottom" fmla="*/ 2580480 h 2663640"/>
            </a:gdLst>
            <a:ahLst/>
            <a:rect l="textAreaLeft" t="textAreaTop" r="textAreaRight" b="textAreaBottom"/>
            <a:pathLst>
              <a:path w="21600" h="33743">
                <a:moveTo>
                  <a:pt x="3600" y="0"/>
                </a:moveTo>
                <a:arcTo wR="3600" hR="3600" stAng="16200000" swAng="-5400000"/>
                <a:lnTo>
                  <a:pt x="0" y="30143"/>
                </a:lnTo>
                <a:arcTo wR="3600" hR="3600" stAng="10800000" swAng="-5400000"/>
                <a:lnTo>
                  <a:pt x="18000" y="337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cc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79280" y="5373720"/>
            <a:ext cx="8736120" cy="12952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BEDRIJFSONDERSTEUN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01600" y="907920"/>
            <a:ext cx="8713800" cy="7923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SAMENWERK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979640" y="1773360"/>
            <a:ext cx="5184720" cy="2663640"/>
          </a:xfrm>
          <a:prstGeom prst="roundRect">
            <a:avLst>
              <a:gd name="adj" fmla="val 16667"/>
            </a:avLst>
          </a:prstGeom>
          <a:solidFill>
            <a:srgbClr val="7cc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ZORG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79280" y="4508640"/>
            <a:ext cx="8713800" cy="7920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ZORGPROCESONDERSTEUN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981080" y="4724280"/>
            <a:ext cx="5112000" cy="505080"/>
          </a:xfrm>
          <a:prstGeom prst="roundRect">
            <a:avLst>
              <a:gd name="adj" fmla="val 16667"/>
            </a:avLst>
          </a:prstGeom>
          <a:solidFill>
            <a:srgbClr val="a6a6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00"/>
            </a:br>
            <a:r>
              <a:rPr b="1" lang="nl-NL" sz="1000" spc="-1" strike="noStrike">
                <a:solidFill>
                  <a:srgbClr val="000000"/>
                </a:solidFill>
                <a:latin typeface="Calibri"/>
              </a:rPr>
              <a:t>ZORGLOGISTIE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2179800" y="1955880"/>
            <a:ext cx="2232000" cy="1297080"/>
          </a:xfrm>
          <a:prstGeom prst="roundRect">
            <a:avLst>
              <a:gd name="adj" fmla="val 16667"/>
            </a:avLst>
          </a:prstGeom>
          <a:solidFill>
            <a:srgbClr val="a6a6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Calibri"/>
              </a:rPr>
              <a:t>CONSUL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4707000" y="1955880"/>
            <a:ext cx="1942920" cy="1297080"/>
          </a:xfrm>
          <a:prstGeom prst="roundRect">
            <a:avLst>
              <a:gd name="adj" fmla="val 16667"/>
            </a:avLst>
          </a:prstGeom>
          <a:solidFill>
            <a:srgbClr val="a6a6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7236000" y="1773360"/>
            <a:ext cx="1679400" cy="2663640"/>
          </a:xfrm>
          <a:custGeom>
            <a:avLst/>
            <a:gdLst>
              <a:gd name="textAreaLeft" fmla="*/ 81720 w 1679400"/>
              <a:gd name="textAreaRight" fmla="*/ 1597680 w 1679400"/>
              <a:gd name="textAreaTop" fmla="*/ 81720 h 2663640"/>
              <a:gd name="textAreaBottom" fmla="*/ 2581920 h 2663640"/>
            </a:gdLst>
            <a:ahLst/>
            <a:rect l="textAreaLeft" t="textAreaTop" r="textAreaRight" b="textAreaBottom"/>
            <a:pathLst>
              <a:path w="21600" h="34256">
                <a:moveTo>
                  <a:pt x="3600" y="0"/>
                </a:moveTo>
                <a:arcTo wR="3600" hR="3600" stAng="16200000" swAng="-5400000"/>
                <a:lnTo>
                  <a:pt x="0" y="30656"/>
                </a:lnTo>
                <a:arcTo wR="3600" hR="3600" stAng="10800000" swAng="-5400000"/>
                <a:lnTo>
                  <a:pt x="18000" y="34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cc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Calibri"/>
              </a:rPr>
              <a:t>ONDERWIJ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 rot="5400000">
            <a:off x="2109600" y="2462040"/>
            <a:ext cx="932040" cy="503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900" spc="-1" strike="noStrike">
                <a:solidFill>
                  <a:srgbClr val="ffffff"/>
                </a:solidFill>
                <a:latin typeface="Calibri"/>
              </a:rPr>
              <a:t>ANAMNESE,  EIG.ONDER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2195640" y="3429000"/>
            <a:ext cx="2232000" cy="936720"/>
          </a:xfrm>
          <a:prstGeom prst="roundRect">
            <a:avLst>
              <a:gd name="adj" fmla="val 16667"/>
            </a:avLst>
          </a:prstGeom>
          <a:solidFill>
            <a:srgbClr val="a6a6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Calibri"/>
              </a:rPr>
              <a:t>AANVULLEND ONDERZOE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2987640" y="4005360"/>
            <a:ext cx="647640" cy="287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R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3708360" y="3645000"/>
            <a:ext cx="619200" cy="288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P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987640" y="36450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NU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2268360" y="4005360"/>
            <a:ext cx="648000" cy="287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MM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3708360" y="4005360"/>
            <a:ext cx="625680" cy="287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22"/>
          <p:cNvSpPr/>
          <p:nvPr/>
        </p:nvSpPr>
        <p:spPr>
          <a:xfrm>
            <a:off x="4716360" y="3429000"/>
            <a:ext cx="1943280" cy="934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VERPLEGING en VERZORG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23"/>
          <p:cNvSpPr/>
          <p:nvPr/>
        </p:nvSpPr>
        <p:spPr>
          <a:xfrm>
            <a:off x="4778280" y="2244600"/>
            <a:ext cx="863640" cy="432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OPER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5715000" y="2244600"/>
            <a:ext cx="838080" cy="432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MEDIC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25"/>
          <p:cNvSpPr/>
          <p:nvPr/>
        </p:nvSpPr>
        <p:spPr>
          <a:xfrm>
            <a:off x="4778280" y="2747880"/>
            <a:ext cx="863640" cy="411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THERAP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7"/>
          <p:cNvSpPr/>
          <p:nvPr/>
        </p:nvSpPr>
        <p:spPr>
          <a:xfrm>
            <a:off x="5715000" y="2747880"/>
            <a:ext cx="863640" cy="428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28"/>
          <p:cNvSpPr/>
          <p:nvPr/>
        </p:nvSpPr>
        <p:spPr>
          <a:xfrm>
            <a:off x="2125800" y="4794120"/>
            <a:ext cx="1463400" cy="385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ZORGPLAN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468360" y="6165720"/>
            <a:ext cx="1512720" cy="363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PERSONEEL en ORGANIS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1"/>
          <p:cNvSpPr/>
          <p:nvPr/>
        </p:nvSpPr>
        <p:spPr>
          <a:xfrm>
            <a:off x="2125800" y="6165720"/>
            <a:ext cx="1511280" cy="363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FINANCIELE ADMINISTR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3781440" y="6165720"/>
            <a:ext cx="1511280" cy="363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I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>
            <a:off x="5508720" y="5661000"/>
            <a:ext cx="1512720" cy="363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COMMUNICATIE en VOORLICH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4"/>
          <p:cNvSpPr/>
          <p:nvPr/>
        </p:nvSpPr>
        <p:spPr>
          <a:xfrm>
            <a:off x="3781440" y="5661000"/>
            <a:ext cx="1511280" cy="363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JURIDISCHE ONDERSTEUNING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6"/>
          <p:cNvSpPr/>
          <p:nvPr/>
        </p:nvSpPr>
        <p:spPr>
          <a:xfrm rot="5400000">
            <a:off x="5797440" y="2962080"/>
            <a:ext cx="2158920" cy="288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OVERDRACH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7"/>
          <p:cNvSpPr/>
          <p:nvPr/>
        </p:nvSpPr>
        <p:spPr>
          <a:xfrm>
            <a:off x="468360" y="4778280"/>
            <a:ext cx="1439640" cy="397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ZORGREL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38"/>
          <p:cNvSpPr/>
          <p:nvPr/>
        </p:nvSpPr>
        <p:spPr>
          <a:xfrm>
            <a:off x="7165800" y="5661000"/>
            <a:ext cx="151164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HOTEL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9"/>
          <p:cNvSpPr/>
          <p:nvPr/>
        </p:nvSpPr>
        <p:spPr>
          <a:xfrm rot="5400000">
            <a:off x="2755440" y="2463840"/>
            <a:ext cx="932040" cy="500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900" spc="-1" strike="noStrike">
                <a:solidFill>
                  <a:srgbClr val="ffffff"/>
                </a:solidFill>
                <a:latin typeface="Calibri"/>
              </a:rPr>
              <a:t>BEOORDELING &amp; DIAGNO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0"/>
          <p:cNvSpPr/>
          <p:nvPr/>
        </p:nvSpPr>
        <p:spPr>
          <a:xfrm rot="5400000">
            <a:off x="3405600" y="2461320"/>
            <a:ext cx="932040" cy="504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900" spc="-1" strike="noStrike">
                <a:solidFill>
                  <a:srgbClr val="ffffff"/>
                </a:solidFill>
                <a:latin typeface="Calibri"/>
              </a:rPr>
              <a:t>BEHANDEL-PLA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1"/>
          <p:cNvSpPr/>
          <p:nvPr/>
        </p:nvSpPr>
        <p:spPr>
          <a:xfrm>
            <a:off x="5508720" y="6165720"/>
            <a:ext cx="1512720" cy="363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MEDISCHE TECHNOLOG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2"/>
          <p:cNvSpPr/>
          <p:nvPr/>
        </p:nvSpPr>
        <p:spPr>
          <a:xfrm>
            <a:off x="2268360" y="3645000"/>
            <a:ext cx="648000" cy="288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KC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7165800" y="6165720"/>
            <a:ext cx="1511640" cy="358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VEILIGHEID, KWALITEIT, ARBO en MILIE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50"/>
          <p:cNvSpPr/>
          <p:nvPr/>
        </p:nvSpPr>
        <p:spPr>
          <a:xfrm>
            <a:off x="324000" y="227664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AANVRAA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1"/>
          <p:cNvSpPr/>
          <p:nvPr/>
        </p:nvSpPr>
        <p:spPr>
          <a:xfrm>
            <a:off x="324000" y="3141720"/>
            <a:ext cx="1439640" cy="358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UITVOE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2"/>
          <p:cNvSpPr/>
          <p:nvPr/>
        </p:nvSpPr>
        <p:spPr>
          <a:xfrm>
            <a:off x="324000" y="270828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VOORBEREI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3"/>
          <p:cNvSpPr/>
          <p:nvPr/>
        </p:nvSpPr>
        <p:spPr>
          <a:xfrm>
            <a:off x="324000" y="357336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AFRON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4"/>
          <p:cNvSpPr/>
          <p:nvPr/>
        </p:nvSpPr>
        <p:spPr>
          <a:xfrm>
            <a:off x="3781440" y="4794120"/>
            <a:ext cx="1511280" cy="385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5"/>
          <p:cNvSpPr/>
          <p:nvPr/>
        </p:nvSpPr>
        <p:spPr>
          <a:xfrm>
            <a:off x="0" y="6669000"/>
            <a:ext cx="8964720" cy="25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nl-NL" sz="900" spc="-1" strike="noStrike">
                <a:solidFill>
                  <a:srgbClr val="ffffff"/>
                </a:solidFill>
                <a:latin typeface="Calibri"/>
              </a:rPr>
              <a:t>RDZ versie2.2 Referentiedomeinenmodel Ziekenhuizen  van i-ziekenhuis</a:t>
            </a:r>
            <a:r>
              <a:rPr b="0" i="1" lang="nl-NL" sz="900" spc="-1" strike="noStrike">
                <a:solidFill>
                  <a:srgbClr val="ffffff"/>
                </a:solidFill>
                <a:latin typeface="Calibri"/>
              </a:rPr>
              <a:t>        i-ziekenhuis is een samenwerkingprogramma van de NL ziekenhuizen en UMC’s op initiatief van NVZ en NICTIZ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6"/>
          <p:cNvSpPr/>
          <p:nvPr/>
        </p:nvSpPr>
        <p:spPr>
          <a:xfrm>
            <a:off x="7380360" y="227664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SAMENSTELL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57"/>
          <p:cNvSpPr/>
          <p:nvPr/>
        </p:nvSpPr>
        <p:spPr>
          <a:xfrm>
            <a:off x="7380360" y="2781360"/>
            <a:ext cx="1368360" cy="358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8"/>
          <p:cNvSpPr/>
          <p:nvPr/>
        </p:nvSpPr>
        <p:spPr>
          <a:xfrm>
            <a:off x="7380360" y="328464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OPLEI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9"/>
          <p:cNvSpPr/>
          <p:nvPr/>
        </p:nvSpPr>
        <p:spPr>
          <a:xfrm>
            <a:off x="7380360" y="3789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EVALU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60"/>
          <p:cNvSpPr/>
          <p:nvPr/>
        </p:nvSpPr>
        <p:spPr>
          <a:xfrm>
            <a:off x="324000" y="400536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VALORIS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4660920" y="1197000"/>
            <a:ext cx="1871640" cy="4334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VERWIJZ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6748560" y="1197000"/>
            <a:ext cx="1871640" cy="4334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INFORMATIEUITWISSEL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412920" y="119700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PARTICIP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48"/>
          <p:cNvSpPr/>
          <p:nvPr/>
        </p:nvSpPr>
        <p:spPr>
          <a:xfrm>
            <a:off x="2500200" y="119700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KENNISMANAG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43"/>
          <p:cNvSpPr/>
          <p:nvPr/>
        </p:nvSpPr>
        <p:spPr>
          <a:xfrm>
            <a:off x="7207200" y="4768920"/>
            <a:ext cx="1422360" cy="404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Z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FACTUR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468360" y="5661000"/>
            <a:ext cx="151272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GEBOUWEN en MIDDELE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5508720" y="4794120"/>
            <a:ext cx="1476360" cy="385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ZORGLOGISTIE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2133720" y="5657760"/>
            <a:ext cx="1511280" cy="363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INKOOP en GOEDERENLOGISTIE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7500960" y="299880"/>
            <a:ext cx="1247760" cy="4302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INNOVATI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1716120" y="303120"/>
            <a:ext cx="1271520" cy="432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PERFORMAN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572000" y="303120"/>
            <a:ext cx="1309680" cy="432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VERANTWOORD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326880" y="303120"/>
            <a:ext cx="1257480" cy="441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STU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49"/>
          <p:cNvSpPr/>
          <p:nvPr/>
        </p:nvSpPr>
        <p:spPr>
          <a:xfrm>
            <a:off x="6012000" y="299880"/>
            <a:ext cx="1314360" cy="432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8"/>
          <p:cNvSpPr/>
          <p:nvPr/>
        </p:nvSpPr>
        <p:spPr>
          <a:xfrm>
            <a:off x="3110040" y="312840"/>
            <a:ext cx="1317600" cy="431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KWALITEIT &amp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Calibri"/>
              </a:rPr>
              <a:t>VEILIGHE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4" descr=""/>
          <p:cNvPicPr/>
          <p:nvPr/>
        </p:nvPicPr>
        <p:blipFill>
          <a:blip r:embed="rId1"/>
          <a:stretch/>
        </p:blipFill>
        <p:spPr>
          <a:xfrm>
            <a:off x="8839080" y="-150840"/>
            <a:ext cx="304920" cy="118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Referentiedomeinenmodel</cp:keywords>
  <dc:language>en-US</dc:language>
  <cp:lastModifiedBy>Ben van der Stigchel</cp:lastModifiedBy>
  <dcterms:modified xsi:type="dcterms:W3CDTF">2014-02-26T15:02:51Z</dcterms:modified>
  <cp:revision>73</cp:revision>
  <dc:subject>RDZv2</dc:subject>
  <dc:title>Dia 1</dc:title>
</cp:coreProperties>
</file>